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E132-98D5-4406-A309-3AB093CA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3112-B716-4CC4-945F-E6CB4CF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7258-AAE2-4BC9-B02A-794FF573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760B-8DBA-4A92-A155-FF46C597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515-E74F-4F36-B78A-9677A253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5ED7-E1FA-4A05-87F1-88D9BC86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6532-6AED-4469-97CE-13E5B0D5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F20C-2E4F-4DD4-ACEB-496686D5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D3FC-3629-4281-9E74-5C1D7350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D1A3-7797-4181-BF80-4C54664C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6B7A-796C-4D17-8E20-6B0A248B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1659-911A-4D39-AFE5-CE764A25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C2AB-859D-4262-9782-62A46335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AB9C-8003-4E4A-AEC2-512A72B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81E3-EC07-4937-B5A2-C1CFA122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13EA-49AC-4AAD-91C3-754E2CBB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06B6-5F64-4970-BDAE-E6FBED42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D4AA-F2E5-4813-A03C-B170645C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FA90-A340-4087-8CE7-C55BAC6D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E821-9D03-4BB4-B90E-7A4609E0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1539-0F55-4842-90D8-5FB03189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7E15-15EE-4148-A1C5-97D7DF77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F8AE-3903-4C11-929C-8E5A51AF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4E2A-F04A-4311-8117-9A9BF762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826-49F1-478C-BC59-5FDDD8D3D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194E-1213-4C1F-B4D1-940C9FDFA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ine cipher is another version of a substitution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tter is assigned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umbers are selected (a, b) between 0 and 25 such that the gcd(a,26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 and c represent letters (p,c are numbers between 0 and 26) where p is a plaintext letter and c is a ciphertext letter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13440" y="490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ap + b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55515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 = 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c - b)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4C48-BEF5-4E15-B9BB-BCA6609B2C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key (a,b) = (7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d(7,2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6 = 15 (since 7 x 15 = 105 and 105 mod 26 =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3535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The general encipher/decipher equ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960" y="4087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7p + 3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4552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hot” is 7 14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040" y="506412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h)     = 7*7 + 3 mod 26 = 52 mod 26 = 0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3040" y="54594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o) = 7*14 + 3 mod 26 = 98 mod 26 = 23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8482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t)  = 7*19 + 3 mod 26 = 133 mod 26 = 6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5600" y="6246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DB9F-9835-455C-8D99-FEF0896566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Cipher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5708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Affine option under the cipher menu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886120"/>
            <a:ext cx="7283520" cy="32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2766960"/>
            <a:ext cx="1164960" cy="784440"/>
          </a:xfrm>
          <a:prstGeom prst="wedgeRoundRectCallout">
            <a:avLst>
              <a:gd name="adj1" fmla="val -45097"/>
              <a:gd name="adj2" fmla="val 653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 the two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5040" y="2305080"/>
            <a:ext cx="1165320" cy="614160"/>
          </a:xfrm>
          <a:prstGeom prst="wedgeRoundRectCallout">
            <a:avLst>
              <a:gd name="adj1" fmla="val -45097"/>
              <a:gd name="adj2" fmla="val 972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set up you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0" y="2287440"/>
            <a:ext cx="1560600" cy="890640"/>
          </a:xfrm>
          <a:prstGeom prst="wedgeRoundRectCallout">
            <a:avLst>
              <a:gd name="adj1" fmla="val -55699"/>
              <a:gd name="adj2" fmla="val 9706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or message if you fail to select the correct ke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06280" y="620388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747E-2AF5-43CB-8657-34F06B8200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0T08:51:09Z</dcterms:modified>
  <cp:revision>45</cp:revision>
  <dc:subject/>
  <dc:title>CAP Cryptographic Analysis Program</dc:title>
</cp:coreProperties>
</file>